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070-D2BA-4462-884A-374B36D9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EBA-6814-4615-90EF-779E1C4D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9754-F171-4FA6-AE24-ADD6CCDE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911D-6B28-4D56-999D-E083546A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6E7-519C-4F1E-A072-944C7E3B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D7CD-2DAC-41A0-B12A-76F97A51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FE9-3BC8-46DE-8425-74ED31DF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FB8-23FC-49A9-86D3-05C33B5F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AE0-B63E-4359-9756-79019D6E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382-A6F9-40B4-9EE2-A1FF70F7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4DB-B279-4C14-8EFC-8BE4D86B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450-6803-4143-B674-82BA7BC6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4FE-E093-40F4-842F-C365F7FA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515-7CCB-4AB1-9D04-E9F72D5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8BD-4FB5-4B5B-A90F-05A581D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F5A-E323-4274-8D00-F76413C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CC8-787A-435A-A9E7-986B9C91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5B0-08F2-49F0-994D-A84EA42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033-CEAC-43F6-B7CD-78F85C3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52B-A370-480C-8DDE-E4A5CD1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2E2-E924-434B-AB73-9FA424D4D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54280" y="354240"/>
            <a:ext cx="56372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entify Your Strengths and Focusing On Improved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gypt Uni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828800"/>
          <a:ext cx="7924680" cy="3809880"/>
        </p:xfrm>
        <a:graphic>
          <a:graphicData uri="http://schemas.openxmlformats.org/drawingml/2006/table">
            <a:tbl>
              <a:tblPr/>
              <a:tblGrid>
                <a:gridCol w="1141200"/>
                <a:gridCol w="1155960"/>
                <a:gridCol w="988920"/>
                <a:gridCol w="930240"/>
                <a:gridCol w="830160"/>
                <a:gridCol w="935280"/>
                <a:gridCol w="1042920"/>
                <a:gridCol w="90000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  it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  it Wr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ew/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n’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e/ Gues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ple Mista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  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914400" y="897840"/>
            <a:ext cx="61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am good at:  My Streng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79480" y="2993400"/>
            <a:ext cx="73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got wrong because of simple mistakes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90720" y="4966920"/>
            <a:ext cx="63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 can do to keep this from happening ag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600200" y="152388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752480" y="34290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2480" y="54864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0440" y="118836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got wrong and I am not sure what to do to correct them: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828800" y="20574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905120" y="4038480"/>
            <a:ext cx="5486400" cy="17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80880" y="3660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 do to get better at them:  My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Self-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quiz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hoic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range-Man-Aiming-a-Bow-and-Arrow-at-a-Target-During-Archery-Practice-10939"/>
          <p:cNvPicPr/>
          <p:nvPr/>
        </p:nvPicPr>
        <p:blipFill>
          <a:blip r:embed="rId1"/>
          <a:stretch/>
        </p:blipFill>
        <p:spPr>
          <a:xfrm>
            <a:off x="5811840" y="3200400"/>
            <a:ext cx="3046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urvey"/>
          <p:cNvPicPr/>
          <p:nvPr/>
        </p:nvPicPr>
        <p:blipFill>
          <a:blip r:embed="rId1"/>
          <a:stretch/>
        </p:blipFill>
        <p:spPr>
          <a:xfrm>
            <a:off x="3502080" y="4800600"/>
            <a:ext cx="1861920" cy="193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87% of my students said self-assessing helps them ‘Greatly’ or ‘Somewhat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of students reported self-assessing affected the way they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half said they’d like to use self-assessment aids ‘more frequently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y students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assessing is important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me what my strong points in the areas a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more time on you, not in group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me a visual of what I need to focus on so I know what I need to stud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listening to yourself can help you on tests/quizz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self_reflection_pic"/>
          <p:cNvPicPr/>
          <p:nvPr/>
        </p:nvPicPr>
        <p:blipFill>
          <a:blip r:embed="rId1"/>
          <a:stretch/>
        </p:blipFill>
        <p:spPr>
          <a:xfrm>
            <a:off x="6324480" y="4648320"/>
            <a:ext cx="1690920" cy="1912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assessing is important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lps me understand what I miss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ts me know what (I) need to study and how muc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content will be on the test.  Some teachers don’t tell yo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lps me learn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me my mistak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1:15:52Z</dcterms:created>
  <dc:creator>Tina Withorn</dc:creator>
  <dc:description/>
  <dc:language>en-US</dc:language>
  <cp:lastModifiedBy>mmiddleton</cp:lastModifiedBy>
  <dcterms:modified xsi:type="dcterms:W3CDTF">2011-02-08T14:19:19Z</dcterms:modified>
  <cp:revision>2</cp:revision>
  <dc:subject/>
  <dc:title>Slide 1</dc:title>
</cp:coreProperties>
</file>